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4F7-1DF0-423E-97E3-D3AED67D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39B-23B5-428D-8BEA-9903628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8C0-ACC0-4904-A79C-A3CA07D8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D73-297C-45E7-B40D-3617B27F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AD6-C151-4D59-88F2-7CD5602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742-7916-4338-BC79-F60C228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E30-5EC8-46C5-8137-F7F47D5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68B-B7CF-4E36-832F-921CF70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580-5B56-49B4-A4E0-88BB64AF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AFF-76A9-4292-A301-EF5BF68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8AE-907E-4655-A222-D7F0255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1C5-A363-4097-B971-C72E338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A49-C057-4D3B-B93C-F0B175098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1290108&amp;a=c&amp;q=blueprint&amp;k_mode=all&amp;s=64&amp;e=84&amp;show=&amp;c=&amp;cid=&amp;findincat=&amp;g=&amp;cc=216:2:178:91:2:474:51&amp;page=4&amp;k_exc=&amp;pubid=&amp;color=&amp;b=k&amp;date=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answers these questi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37000" y="2133720"/>
            <a:ext cx="633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m I provoked to make this argume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is this issue important right n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 is this issue controversi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 are others saying on this issu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o is on my side? What are their credential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o is on the other side? Why are they wro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are they right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3946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1430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517320" y="5522760"/>
            <a:ext cx="82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y Say/I Say: The Moves That Matter in Academic Wri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d Graff and Kathy Birkenstein. Norton. 2006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45680" y="1789200"/>
            <a:ext cx="55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establish or deny a compariso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97680" y="2703600"/>
            <a:ext cx="72687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 is like 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9364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84200" y="3962520"/>
            <a:ext cx="7562880" cy="256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(s) may say that 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ike _______________________________, but the comparison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because while _________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______________________________, it is not as 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y clai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-337320" y="180648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establish the importance of this top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90240" y="2475000"/>
            <a:ext cx="64612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 is important because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5560" y="3313080"/>
            <a:ext cx="69184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ould care about______________because if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65480" y="4761000"/>
            <a:ext cx="7238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imately, what is at stake here is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11040" y="5599080"/>
            <a:ext cx="55785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iscussion of _________________ addresses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matter of 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46040" y="1806480"/>
            <a:ext cx="64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trace the development of your own 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bjec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3031692"/>
          <p:cNvPicPr/>
          <p:nvPr/>
        </p:nvPicPr>
        <p:blipFill>
          <a:blip r:embed="rId1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21000" y="2703600"/>
            <a:ext cx="7206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ve always believed that____________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3000" y="3352680"/>
            <a:ext cx="8424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 was a child, I used to think that_________________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/and now I realize that____________________________________________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4520" y="4572000"/>
            <a:ext cx="5875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same time that I believe_______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lso believe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13920" y="5522760"/>
            <a:ext cx="5115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areful consideration and as a result of m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, I have/have not changed my m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6400" y="1806480"/>
            <a:ext cx="62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words and phrases to establish cause and effect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031692"/>
          <p:cNvPicPr/>
          <p:nvPr/>
        </p:nvPicPr>
        <p:blipFill>
          <a:blip r:embed="rId1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928440" y="2398680"/>
            <a:ext cx="62204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(of)_____________, 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919080" y="3084480"/>
            <a:ext cx="1666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esult (o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fr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916560" y="4532400"/>
            <a:ext cx="20307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con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10960" y="2932200"/>
            <a:ext cx="1626840" cy="256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…the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, 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8200" y="1806480"/>
            <a:ext cx="70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noun phrases to negatively characterize your opponent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040" y="4191120"/>
            <a:ext cx="69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noun phrases to positively characterize your supporter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3031692"/>
          <p:cNvPicPr/>
          <p:nvPr/>
        </p:nvPicPr>
        <p:blipFill>
          <a:blip r:embed="rId1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222200" y="4724280"/>
            <a:ext cx="539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ive thinkers                prudent thin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think about             proactive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care about              civic-minded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know about            serious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understand            people with regard f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s                                 rea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202040" y="2246400"/>
            <a:ext cx="722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disregard                               those who take a narrow 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s                                               people who liv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ysayers                                               people who are una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would have us believe           those on the side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live only for the moment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li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is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 response</a:t>
            </a:r>
            <a:br>
              <a:rPr sz="4000"/>
            </a:b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oppos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362141"/>
          <p:cNvPicPr/>
          <p:nvPr/>
        </p:nvPicPr>
        <p:blipFill>
          <a:blip r:embed="rId1"/>
          <a:stretch/>
        </p:blipFill>
        <p:spPr>
          <a:xfrm>
            <a:off x="380880" y="2743200"/>
            <a:ext cx="3114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embeds all or some of these component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4479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46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1430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37960" y="1523880"/>
            <a:ext cx="7823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ment of the opposing 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tions and paraphrases (references to author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cdotes (little stor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bination of objective (academic) and subjective (emotional) langu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torical ques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 and fig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and effect stat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ty of perspectives (I, we, you, he, she, the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good argument refers to 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some of the following value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144792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9466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430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30400" y="15238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360" y="1371600"/>
            <a:ext cx="8529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These are overlapping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tic Principles: Personal freedom, expression of individualit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of democracy, the right to be left alone, civil liberti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noring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of Community: Helping others, sharing resour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ing future generations; establishing sense of belonging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ing for loved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 for safety and security: Protection against enemies, protection of resource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sufficient food and shelter, avoiding and responding to natu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ster, maintaining heal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s: Maintaining sufficient resources for now and the futur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ng personal fortunes while offer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 to every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uty, Pleasure, Conveni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45680" y="178920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at the outset of your argument to establish what others ha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n saying on this topic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337320" y="2666880"/>
            <a:ext cx="668520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cent __________, we have been hearing a great deal ab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 by 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29528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07880" y="3809880"/>
            <a:ext cx="62294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 has been in the news rec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278000" y="531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9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8560" y="1523880"/>
            <a:ext cx="73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frames at the outset of your argument to introduce an ongo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at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39000" y="2286000"/>
            <a:ext cx="7236720" cy="311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ussions of _____________, one controversial issue has b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. People who believe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that________________________________. On the other hand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who believe _____________________________ assert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own view is 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295280" y="390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278000" y="5311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94840" y="1560600"/>
            <a:ext cx="72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frame to establish common ground on a controversial issue: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73640" y="2246400"/>
            <a:ext cx="7790040" cy="311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comes to the topic of ______________________, most of 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agree that ____________________________. Where th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ends, however, is on the question of 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as some are convinced that 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maintain that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own view is that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-639000" y="1806480"/>
            <a:ext cx="78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as you acknowledge that the opposing side has a certa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 to validity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82400" y="2666880"/>
            <a:ext cx="70707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at one time it may have been true that______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now state that____________________________________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90680" y="3962520"/>
            <a:ext cx="7457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 makes sense when he/she/they say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, but 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60160" y="5181480"/>
            <a:ext cx="8236440" cy="1465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the validity of ______________________’s claim about ____________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/she/they miss the mark when it comes to_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____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 Frames for Arg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-388080" y="1806480"/>
            <a:ext cx="65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frames to establish working definitions of key term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47920" y="2627280"/>
            <a:ext cx="78861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purpose of this discussion, I will define 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___________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49720" y="4075200"/>
            <a:ext cx="8466840" cy="1465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you might think of ______________________as being j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_________________________, I define it as___________________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30316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054760"/>
            <a:ext cx="2048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5:42:19Z</dcterms:created>
  <dc:creator>Amy Benjamin</dc:creator>
  <dc:description/>
  <dc:language>en-US</dc:language>
  <cp:lastModifiedBy>Amy</cp:lastModifiedBy>
  <dcterms:modified xsi:type="dcterms:W3CDTF">2012-11-18T16:03:33Z</dcterms:modified>
  <cp:revision>3</cp:revision>
  <dc:subject/>
  <dc:title>Sentence Frames for Argumentation</dc:title>
</cp:coreProperties>
</file>